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494-C3F5-45ED-963C-824D47CF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9C6-9DFF-4ED6-8DFF-1AB00D58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0CE-EA5C-4A63-BCAD-DE205FB1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795-A9CA-436A-A41E-63258777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072-B630-4787-9461-E78D49AB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9FA-C62D-4725-9266-7AF3EAC6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743-701B-4113-913A-1923C99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B71-225C-440E-8318-91F4E6CF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B20-85DD-406F-908D-378BCDE5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F82-52B1-4A6F-B399-127DEC6C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206-0704-4871-9582-83FE93F5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9B5-142D-4704-8CEF-7F967FD4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6132-5A39-4E1C-AE4C-3B192085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51E-90D8-4283-A10D-3A55916E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4BAC-C765-4BBE-A186-DA0F582D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696D-9F20-4496-B735-B5B3C5E8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E2A1-E3C5-4843-9A98-F967CF50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09F2-5E91-4051-9237-69E1521A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AB48-A4C7-4F23-A066-242BBB8E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9BD8-11C2-417C-94A2-2C63B95C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5732-3B28-405C-82B2-CDCE97DC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81D6-9BA5-4615-ACC8-DC3B79B5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2D06-7AE2-4353-997F-F4239E4B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ACBE-C9C0-421F-8B22-9ED797A1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F947-33F2-4C9E-AFA6-1DD76EBD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FD9BB-DF27-4D26-9F80-CEAB7EF0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15763-B7E9-422F-876F-138016F3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6989-FEF3-4B82-BF51-01D0B40E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EDCD-C199-47CE-B626-C74B0782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35E1-4005-4DD6-9DD4-F34F61F9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3A1D1-0156-4230-B5D0-C5D27D04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8315-7274-4E49-83EC-F9CB98B1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8D46-E035-4FAE-B306-573B2F3C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3203-EEB3-42BD-92C9-4A79835C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F9B7-0006-4929-B221-85B79152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E013-D41C-41F6-B4C2-E88A1282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FA168-B6B7-486E-AAE5-2ED60C2F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DBA13-D1C9-46C5-9EFD-B0B67C8D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C7B3-F75E-4213-9CF1-F7CC4F22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D1947-C301-4342-A333-ADB08082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B4F99-9B75-4B10-B61A-0C911413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D817D-D7F6-4978-93FD-A874A5C3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0DC3B-9599-48CE-AA40-5022762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4CA5-9B43-47EE-AA9B-73626B84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B0CE-2696-4711-B5A2-B8821B7A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C4D2-398A-45EE-A578-69B79BA2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C8EF6-FFF9-4642-B888-50F2B455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FC281-2DFB-4420-9DF1-61824605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FE518-B95A-4A88-B9CB-2A95B47B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7E484-98C4-4702-B0F1-C80BD1AE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0046A-7FD9-4F76-AB57-69C9D2F2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55890-387B-4E03-8F4F-3DAD7AEC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14FBC-38FD-43B2-81DA-A3AFB1A1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7495C-D2E0-4054-9471-637B14AD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2967-0C76-4CD3-ABAA-08E842C6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8404-EF1F-4622-A977-B22B71E2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4991B-3CF5-4DEA-95CE-610A0194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20A44-8BC3-4E6D-A4AF-C2B35846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21559-D47E-4B2F-9057-12F9C289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7D070-A216-49AF-91A2-9F0FE76B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1F194-3DE8-49D4-A6CC-78233166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F2EA5-CA45-4326-9B16-B61C363E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B1B01-19C2-40C4-99B5-146F2E3E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CE81C-2A51-40C3-9469-4E971621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2E69C-A514-43DE-92D4-8640FE69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332A-5D54-4262-B2CE-361B0C34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0EC31-C5A9-40CC-A8FA-6F658C46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6BA2C-D396-4878-9644-076998BC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FCE6B-CFFA-49C0-ADE5-1B2BC4BD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615A9-69D1-4842-A618-853A9257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476FA-504E-4F75-9BA0-9296F579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4DBB8-159D-4C20-A902-E6E1704F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144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EAF4-6B55-4B27-BBE4-9B8FD7FC814C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1AF7-1278-42F1-A4DC-4DD3867CC922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D6C0-A3F1-4153-843B-76AFFB60B6E7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2A78-7FAF-4AB6-8657-7DFD80B06532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134F-7627-4AA6-AC92-9F9E89C9513E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C3BD-3FF8-411B-A189-3673F5B3DC2E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3592440" y="724320"/>
            <a:ext cx="47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PENERIMAAN MAHASISWA B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JALUR MANDIRI TAHUN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ISI SURAK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1"/>
          <p:cNvSpPr/>
          <p:nvPr/>
        </p:nvSpPr>
        <p:spPr>
          <a:xfrm>
            <a:off x="4375080" y="2138400"/>
            <a:ext cx="6572160" cy="20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ama Peserta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ISN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Asal Sekolah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104840" y="2138400"/>
            <a:ext cx="2865600" cy="394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antumkan foto terbaru seluruh bada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4143240" y="3137040"/>
            <a:ext cx="390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Karya tulis berbentuk Prosa (fik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4143240" y="3013200"/>
            <a:ext cx="390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eskripsi D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600" spc="-1" strike="noStrike">
                <a:solidFill>
                  <a:srgbClr val="262626"/>
                </a:solidFill>
                <a:latin typeface="Calibri"/>
              </a:rPr>
              <a:t>pengalaman, motivasi dalam bidang te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1"/>
          <p:cNvSpPr/>
          <p:nvPr/>
        </p:nvSpPr>
        <p:spPr>
          <a:xfrm>
            <a:off x="4452840" y="313704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Bukti Prestasi (Jika Ada/Disarank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5"/>
          <p:cNvSpPr/>
          <p:nvPr/>
        </p:nvSpPr>
        <p:spPr>
          <a:xfrm>
            <a:off x="4452840" y="301320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Surat Pernyata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Orisinalitas Data/Dok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07:10:12Z</dcterms:created>
  <dc:creator>asyarief</dc:creator>
  <dc:description/>
  <dc:language>en-US</dc:language>
  <cp:lastModifiedBy>NIKMATUZ ZUHRA AINY</cp:lastModifiedBy>
  <dcterms:modified xsi:type="dcterms:W3CDTF">2025-05-13T05:17:45Z</dcterms:modified>
  <cp:revision>34</cp:revision>
  <dc:subject/>
  <dc:title>Slide 1</dc:title>
</cp:coreProperties>
</file>